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325-BEE9-411A-8C2D-2BCF0E7A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06E-E8E6-4652-A636-166C7849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068-FB8E-4F9A-961B-FE21CCF1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205-7E85-4FB2-BB28-9E501526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CAF5-2B01-4834-8FE2-150F99CD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51CD-9B40-42A8-A568-B4C91776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36D4-6328-4B50-9D27-C86391B1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ACD8-F61A-4FEE-A85A-DDE4E2FB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6E9D-C272-4AD6-BB5A-5AF1E45D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B448-4EBB-4B01-815D-3C5A562D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39E2-FDE0-4374-934C-1E970017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B3E-159B-4D0F-8AD5-F97E846C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0359-E792-4EF2-9918-95337AE9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289A-6FD3-4FE9-9A09-2A8EB711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2D7D-15F6-4DAF-8680-9F3945B1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A1A7-5308-4866-8D15-38E1139E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E87C-50EE-4DD2-B11F-7F6F5049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991-3029-4B15-B960-1A7D1F7B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3B5-82D8-4129-872A-6B4F3249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456-C346-45E6-92B1-D4F6E3CD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C17-A8C6-4995-BB8B-B8901EBF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BF9-CC0D-4F22-A860-F99D87D5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74D-A2A8-4424-8F9F-BF030DBA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BAA-FF96-4C77-A87F-9023D15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103F-CD02-49B0-A354-F7E14F6963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EEF1-481C-4B22-A46D-B96303F3B3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ecting Cognitive States with Machin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s: Xuerui Wang, Rebecca Hutchinson, Tom M. Mitc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aborators: Luis Barrios, Marcel Just, Stefan Niculescu, Francisco Perei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PS Decembe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udy: Pictures and Senten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answers whether sentence describes picture by pressing the appropriate butt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half of trials, order is SP, other half are P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are acquired every 0.5 seco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 fMRI(t,t+8)-&gt;{Picture,Sentence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46200" y="26668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240" y="22096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56080" y="22096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09440" y="2666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17520" y="26668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x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124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124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3124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52800" y="190512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8240" y="32004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3360" y="32004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880" y="32004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3124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00200" y="26668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095520" y="2209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3 normal su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0 trials per subject (half SP, half P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tences and pictures describe 3 symbols: *, +, and $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“The star is above the plus.”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4876920"/>
            <a:ext cx="24386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940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6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2057400"/>
          <a:ext cx="7467120" cy="966960"/>
        </p:xfrm>
        <a:graphic>
          <a:graphicData uri="http://schemas.openxmlformats.org/drawingml/2006/table">
            <a:tbl>
              <a:tblPr/>
              <a:tblGrid>
                <a:gridCol w="1063440"/>
                <a:gridCol w="1070640"/>
                <a:gridCol w="1067400"/>
                <a:gridCol w="1064160"/>
                <a:gridCol w="1063800"/>
                <a:gridCol w="1070640"/>
                <a:gridCol w="10670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25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5% confidence intervals per subject are 10%-15% lar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of default classifier is 5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 selection: Top 240 most active voxels in br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5880" y="20574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9800" y="25146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3048120"/>
          <a:ext cx="7467480" cy="949320"/>
        </p:xfrm>
        <a:graphic>
          <a:graphicData uri="http://schemas.openxmlformats.org/drawingml/2006/table">
            <a:tbl>
              <a:tblPr/>
              <a:tblGrid>
                <a:gridCol w="1062000"/>
                <a:gridCol w="1073160"/>
                <a:gridCol w="1063440"/>
                <a:gridCol w="1063800"/>
                <a:gridCol w="1068480"/>
                <a:gridCol w="1072800"/>
                <a:gridCol w="10638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65880" y="31240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9800" y="35812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n you train across multiple subjec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use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tomical variability across su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 variability across su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tion across su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5853" t="25553" r="5183" b="35706"/>
          <a:stretch/>
        </p:blipFill>
        <p:spPr>
          <a:xfrm>
            <a:off x="152280" y="2133720"/>
            <a:ext cx="8991720" cy="2895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2120" y="50292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5029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 voxels are the best predictors for the Semantic Categories study, shown for 3 different su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pert defines anatomical Regions of Interest (ROIs) that divide each subject’s brain into pie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ompute representative variables for each area (e.g. mean activity) to compare across su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in contrast to approaches that morph brains into canonical coordinate frames (e.g. the Talairach method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ve-one-subject out accuracies (13 subjec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ative variable is average of all voxels per ROI (7 ROIs for this stud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with average of single subject accurac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19320" y="3733920"/>
          <a:ext cx="7772400" cy="2314440"/>
        </p:xfrm>
        <a:graphic>
          <a:graphicData uri="http://schemas.openxmlformats.org/drawingml/2006/table">
            <a:tbl>
              <a:tblPr/>
              <a:tblGrid>
                <a:gridCol w="1103040"/>
                <a:gridCol w="1143000"/>
                <a:gridCol w="1084320"/>
                <a:gridCol w="1125720"/>
                <a:gridCol w="1095120"/>
                <a:gridCol w="1114560"/>
                <a:gridCol w="11066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 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.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Sub. 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.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Sub. 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.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Sub. 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N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V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 flipV="1">
            <a:off x="3465360" y="41544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675400" y="41544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885080" y="41544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63640" y="6216480"/>
            <a:ext cx="85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the results here do not correspond exactly to the results shown earli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xperimental conditions are somewhat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thod abstracts the brain at the ROI level to compare across subj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possible to train a classifier on a set of subjects and get significant results on a new subject (outside the training se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ultiple subjects gives more training data but more variability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 this tradeoff works to our advantage, giving better results than single-subject methods, and sometimes no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9:30:49Z</dcterms:created>
  <dc:creator>School of Computer Science</dc:creator>
  <dc:description/>
  <dc:language>en-US</dc:language>
  <cp:lastModifiedBy>School of Computer Science</cp:lastModifiedBy>
  <dcterms:modified xsi:type="dcterms:W3CDTF">2004-04-12T20:44:17Z</dcterms:modified>
  <cp:revision>10</cp:revision>
  <dc:subject/>
  <dc:title>Detecting Cognitive States with Machine Learning</dc:title>
</cp:coreProperties>
</file>